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9AF-051F-4DD4-BDB7-891DE16C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57C-952B-4004-B83B-497186A8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460-949B-4FA6-B7FD-53113727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0AD-45EC-4EB1-A866-9A5CA514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B06-B504-4B55-8FF8-7EAC629E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553F-D92D-4D9E-AD31-88D42BAC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2A12-9D5B-4133-A353-7738350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F073-45CD-4B8F-A136-7F8DD47C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DAD1-41E1-4910-A3AD-7FAC6A6F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183C-9547-442D-A057-E8CCC91C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B82E-8698-4209-B88C-EBF5C14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C32-40A9-47D9-8CAE-3ADC611B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BBDE-12E9-4DFB-986E-2C9D105C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3182-860E-4A53-8D7B-26DDA036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79B-C4CC-4488-A1B5-410E3F9C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9860-0318-4491-BFDB-AA2FF3D1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4953-A258-409A-8A33-B1643349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808-2B54-4B49-9A66-D744C9E7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CC6-F24E-4913-8F84-6878BE46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3FD-BD12-4627-90A3-CAB9ECF6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8CA-AA82-4F8A-847F-D0F06FD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759-0822-4E0A-9FDB-47EE4E57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539-C9E3-4B2D-9B81-F913FDD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95D-DE4A-42AF-AC31-1BD8C33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53D9-4E2F-457B-B098-41364EF12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rishlogo"/>
          <p:cNvPicPr/>
          <p:nvPr/>
        </p:nvPicPr>
        <p:blipFill>
          <a:blip r:embed="rId2"/>
          <a:stretch/>
        </p:blipFill>
        <p:spPr>
          <a:xfrm>
            <a:off x="500040" y="285840"/>
            <a:ext cx="2000160" cy="820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UtilityRegulator"/>
          <p:cNvPicPr/>
          <p:nvPr/>
        </p:nvPicPr>
        <p:blipFill>
          <a:blip r:embed="rId3"/>
          <a:stretch/>
        </p:blipFill>
        <p:spPr>
          <a:xfrm>
            <a:off x="6072120" y="357120"/>
            <a:ext cx="2548080" cy="627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74C7-4F54-4A3B-8C39-F943FDF2D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a Day Trading Working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EM Modifications  Committee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22 April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Irishlogo"/>
          <p:cNvPicPr/>
          <p:nvPr/>
        </p:nvPicPr>
        <p:blipFill>
          <a:blip r:embed="rId1"/>
          <a:stretch/>
        </p:blipFill>
        <p:spPr>
          <a:xfrm>
            <a:off x="500040" y="285840"/>
            <a:ext cx="2428920" cy="99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UtilityRegulator"/>
          <p:cNvPicPr/>
          <p:nvPr/>
        </p:nvPicPr>
        <p:blipFill>
          <a:blip r:embed="rId2"/>
          <a:stretch/>
        </p:blipFill>
        <p:spPr>
          <a:xfrm>
            <a:off x="5643720" y="500040"/>
            <a:ext cx="2904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28760" y="150012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s to chair Working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to act as Secretari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– drafting proposals, assessing impa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mbers of Working Grou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attend all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arry out work a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liverables &amp;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irst Meeting of Working Group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22 April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igh Level Modification Outline by Second Meeting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end May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etailed Proposal to be presented to and discussed at Third Working Group Meeting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mid July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ssessment of impact by SEMO on CMS and by SOs/IC owners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September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ecommendation to Modifications Committee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October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ubmit Modification to Modifications Committee for vote: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December 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table too t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 West and Moyle end up being under-used owing to lack of incentives to trade in th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Group lacks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 West non-compliant on commiss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tra Day Mod Pro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Draft Proposal Introduces the following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Interconnector Commercial Offer Data for Intra Day gate closures (2 extra gate closure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Means of distinguishing for each Interconnector User between capacity explicitly bought and in merit in ex-ante MSP run and that which is available for reallocation in two(or more) Intra Day MSP Software Ru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wo Indicative Intra-Day MSP Software Runs (auctions)  and data inputs for the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Modified Interconnector Unite Nominations (MIUNs) from Intra Day Trading Auc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Intra Day Active Interconnector Unit Capacity Holding (IUCH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Values for use in the Ex-Post MSP Software Run to reflect Intra Day trad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 for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 be Determin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inition of Intra-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icit or Implicit Auctions (or combination of bo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ctions for part of or full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ce affecting or Constraints payments –Option 1 or Option 2/3 from  SEM C Consul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finition of Intra Day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MG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Successive intra day allocations of available transmissions capacity for day D shall take place on day D-1 and D, after the issuing of the indicated or actual day ahead production schedul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ra Day re-nominations on D-1 only or on D al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preferable for traders and produces greatest benefits to custom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feasible for operators and generat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 Variability and forecas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2 gate closures at 14.00 and 18.00 on D-1 proposed in Mo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Moving current gate closure? –Intra Day for IC users only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are optimal times for IC traders? Trade on D and D-1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Value in later gates closures to traders and for wind forecast accurac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is feasible from system and market operation point of view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are implications for SEM generation – e.g. gas purchasing/selling – Initial Operations Schedule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mpact of timing on SO-SO Trades and balanc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mparison with IFA and other 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icit or Implicit Auctions 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intra day auctions could be done by MSP Software – determine MIUNs and DQ of 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would deliver optimal solution and make trading easier and more effici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icit would involve within day auctions on Moyle and EWIC and re-nomination in SEM/re-optimisation of M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icit would better provide revenue link between IC owner and intra day tra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actual arrangements with the relevant IC owner for IC users of capacity need consid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IOLI – Option 1 and Option 2 for Intr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IOLI most feasible option – participants not in merit in ex-ante allocation lose capacity rights in intr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would UIOSI work with implicit intra day reallo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Meeting Ob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and agree the 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the high leve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ree a set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sign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ree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ice Affecting or Constraints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ice Affecting would impact on ex post MSQs and SMP in the SEM in +/- dir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ice Affecting would lead to more efficient schedule and pric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straints only would be simpler as first step but may not be as attractive to tra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ay not be much difference in terms of system changes? CMS cos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discrimination an issue as all participants entitled to register an IC unit and make use of within day IC capac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art of Full Day Auctions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urrent model is that trades would affect either the schedule and dispatch or just  dispatch of full trading day 6.00am - 6.00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tion to have intra day affect part day – c.f. IFA, IFE, Britned arran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alue to traders in part day auc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ystem implications of part day a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Terms of Refere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&amp;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liverables &amp;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M Regional Integr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ultation Paper – 23 September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sion Paper – 3 Marc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ximise efficient use of interconnector capa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ompliance with existing EU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rket rule changes to accommodate East West 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nsure SEM compatibility with European target models for cross border trad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commendations – Explicit, Day Ahead, Intra Day, Barriers to Trading, SO-SO Trades, EWIC TSC changes, CP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that interconnectors in the SEM are used effici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ilitate price arbitrage by IC users after gate clo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ow IC users to respond to changing conditions nearer rea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IC users can use ATC to its effective max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UIOLI and/or UIO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y with the CM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system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sure compatibility with target mode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35720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 scop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re for intra-day trading to affect SMP and market sched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ideration of multiple gate clo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actions with arrangements for other time fra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actions with dispatch in general and wind in parti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tages of alignment with IFA, BritNed and target European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rits of UIOLI vs. UIO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act on SO-SO trading arrang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ope (cont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35720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ut of sco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rriers to cross border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rket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-SO tr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to SEM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428760" y="164304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rket participants (IC us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ystem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tual Energy L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ested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R and NIA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w entr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428760" y="150012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s to chair Working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G members to propose feasibl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to analyse impact on C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O to develop options, with support of IC users and SOs/Mo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keholders to contribute to the discussion of the options and recommend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8:35:14Z</dcterms:created>
  <dc:creator>pnewsome</dc:creator>
  <dc:description/>
  <dc:language>en-US</dc:language>
  <cp:lastModifiedBy>Aisling O'Donnell</cp:lastModifiedBy>
  <dcterms:modified xsi:type="dcterms:W3CDTF">2010-04-21T16:07:27Z</dcterms:modified>
  <cp:revision>87</cp:revision>
  <dc:subject/>
  <dc:title>Interaction &amp; Data Transactions (interim)</dc:title>
</cp:coreProperties>
</file>